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10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A18-FF2B-4AD3-927B-17A2FC65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685-E965-4CD1-9CCD-65D1C24E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AA4-7647-4E2D-9BF1-390E0B1C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571-830B-42DE-A4FA-F7D6B58C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8C1-7261-4ECD-A8B0-07B70235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309-868E-4540-8701-1EA2F440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9054-82F8-48BD-AF59-226D5CAA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DDE-2C51-48D5-A503-D86E5E63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E6E-63E3-4B4B-A13B-D8A193DF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DB9-25C6-4B25-A9FD-82113E47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948-3A0E-432A-B21F-F3FB8F13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8E0-7524-48BB-8DF7-33146657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2E62-65B0-469D-9C22-F35A55045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rachypelma_edit.jpg" TargetMode="External"/><Relationship Id="rId2" Type="http://schemas.openxmlformats.org/officeDocument/2006/relationships/hyperlink" Target="http://en.wikipedia.org/wiki/Image:Brachypelma_edit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neSerif SAIN SmBd v.1"/>
              </a:rPr>
              <a:t>What Is Visible Think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2670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216720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Serif SAIN SmBd v.1"/>
              </a:rPr>
              <a:t>What is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zzling</a:t>
            </a:r>
            <a:r>
              <a:rPr b="1" lang="en-US" sz="4800" spc="-1" strike="noStrike">
                <a:solidFill>
                  <a:srgbClr val="000000"/>
                </a:solidFill>
                <a:latin typeface="StoneSerif SAIN SmBd v.1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4754520" cy="548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828800" y="1676520"/>
            <a:ext cx="4495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rald"/>
              </a:rPr>
              <a:t>Why do arthropods 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rald"/>
              <a:ea typeface="Hera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rald"/>
              </a:rPr>
              <a:t>hang upside down?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rald"/>
              <a:ea typeface="Herald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xplore</a:t>
            </a:r>
            <a:r>
              <a:rPr b="1" lang="en-US" sz="4800" spc="-1" strike="noStrike">
                <a:solidFill>
                  <a:srgbClr val="000000"/>
                </a:solidFill>
                <a:latin typeface="StoneSerif SAIN SmBd v.1"/>
              </a:rPr>
              <a:t> Puzzling Ques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52680" y="1447920"/>
            <a:ext cx="20574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95288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ewardso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Stewardson"/>
              </a:rPr>
              <a:t>A pad of hairs called a scopula may surround the claws.  The scopula sticks to smooth surfaces and helps the spider walk on ceilings and wall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ewardson"/>
              </a:rPr>
              <a:t>World Book 2000 p. 78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781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toneSerif SAIN SmBd v.1"/>
              </a:rPr>
              <a:t>Think-Puzzle-Explore</a:t>
            </a:r>
            <a:r>
              <a:rPr b="0" lang="en-US" sz="4400" spc="-1" strike="noStrike">
                <a:solidFill>
                  <a:srgbClr val="000000"/>
                </a:solidFill>
                <a:latin typeface="StoneSerif SAIN SmBd v.1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533160" cy="48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838080" y="838080"/>
          <a:ext cx="7238880" cy="5653080"/>
        </p:xfrm>
        <a:graphic>
          <a:graphicData uri="http://schemas.openxmlformats.org/drawingml/2006/table">
            <a:tbl>
              <a:tblPr/>
              <a:tblGrid>
                <a:gridCol w="2413080"/>
                <a:gridCol w="2412720"/>
                <a:gridCol w="2413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toneSerif SBIN SmBd v.1"/>
                        </a:rPr>
                        <a:t>TH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toneSerif SBIN SmBd v.1"/>
                        </a:rPr>
                        <a:t>PUZZL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toneSerif SBIN SmBd v.1"/>
                        </a:rPr>
                        <a:t>EXPL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-Puzzle-Explo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Similar to the KWL chart but there are Important Differenc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2666880"/>
            <a:ext cx="73152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neSerif SBIN SmBd v.1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StoneSerif SBIN SmBd v.1"/>
              </a:rPr>
              <a:t>Both tap into prior knowledge but Think-Puzzle-Explore asks "what the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toneSerif SBIN SmBd v.1"/>
              </a:rPr>
              <a:t>think</a:t>
            </a:r>
            <a:r>
              <a:rPr b="1" lang="en-US" sz="2400" spc="-1" strike="noStrike">
                <a:solidFill>
                  <a:srgbClr val="000000"/>
                </a:solidFill>
                <a:latin typeface="StoneSerif SBIN SmBd v.1"/>
              </a:rPr>
              <a:t> they know" rather than "what they know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Serif SBIN SmBd v.1"/>
              </a:rPr>
              <a:t>-Open ended approach enables students to offer thoughts rather than definite 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Serif SBIN SmBd v.1"/>
              </a:rPr>
              <a:t>-Encourages the reluctant student to participate in discussions, since all thoughts are acce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1039680" cy="1270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neSerif SAIN SmBd v.1"/>
              </a:rPr>
              <a:t>Implications fo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StoneSerif SAIN SmBd v.1"/>
              </a:rPr>
              <a:t>Teaching Learn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neSerif SBIN SmBd v.1"/>
              </a:rPr>
              <a:t>Classroom activities become more </a:t>
            </a:r>
            <a:r>
              <a:rPr b="1" lang="en-US" sz="3200" spc="-1" strike="noStrike">
                <a:solidFill>
                  <a:srgbClr val="000000"/>
                </a:solidFill>
                <a:latin typeface="StoneSerif SBIN SmBd v.1"/>
              </a:rPr>
              <a:t>learning centered</a:t>
            </a:r>
            <a:r>
              <a:rPr b="0" lang="en-US" sz="3200" spc="-1" strike="noStrike">
                <a:solidFill>
                  <a:srgbClr val="000000"/>
                </a:solidFill>
                <a:latin typeface="StoneSerif SBIN SmBd v.1"/>
              </a:rPr>
              <a:t> rather than work orient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neSerif SBIN SmBd v.1"/>
              </a:rPr>
              <a:t>Builds </a:t>
            </a:r>
            <a:r>
              <a:rPr b="1" lang="en-US" sz="3200" spc="-1" strike="noStrike">
                <a:solidFill>
                  <a:srgbClr val="000000"/>
                </a:solidFill>
                <a:latin typeface="StoneSerif SBIN SmBd v.1"/>
              </a:rPr>
              <a:t>confidence</a:t>
            </a:r>
            <a:r>
              <a:rPr b="0" lang="en-US" sz="3200" spc="-1" strike="noStrike">
                <a:solidFill>
                  <a:srgbClr val="000000"/>
                </a:solidFill>
                <a:latin typeface="StoneSerif SBIN SmBd v.1"/>
              </a:rPr>
              <a:t> of all students by </a:t>
            </a:r>
            <a:r>
              <a:rPr b="1" lang="en-US" sz="3200" spc="-1" strike="noStrike">
                <a:solidFill>
                  <a:srgbClr val="000000"/>
                </a:solidFill>
                <a:latin typeface="StoneSerif SBIN SmBd v.1"/>
              </a:rPr>
              <a:t>increased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neSerif SBIN SmBd v.1"/>
              </a:rPr>
              <a:t>Promotes risk-fre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toneSerif SBIN SmBd v.1"/>
              </a:rPr>
              <a:t>Assesses</a:t>
            </a:r>
            <a:r>
              <a:rPr b="0" lang="en-US" sz="3200" spc="-1" strike="noStrike">
                <a:solidFill>
                  <a:srgbClr val="000000"/>
                </a:solidFill>
                <a:latin typeface="StoneSerif SBIN SmBd v.1"/>
              </a:rPr>
              <a:t> student thinking using visible 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218960" cy="1157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toneSerif SAIN SmBd v.1"/>
              </a:rPr>
              <a:t>LEARN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toneSerif SAIN SmBd v.1"/>
              </a:rPr>
              <a:t>IS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toneSerif SAIN SmBd v.1"/>
              </a:rPr>
              <a:t>CONSEQU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toneSerif SAIN SmBd v.1"/>
              </a:rPr>
              <a:t>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toneSerif SAIN SmBd v.1"/>
              </a:rPr>
              <a:t>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163332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toneSerif SAIN SmBd v.1"/>
              </a:rPr>
              <a:t>What is Visible Think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toneSerif SBIN SmBd v.1"/>
              </a:rPr>
              <a:t>Using thinking routin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toneSerif SBIN SmBd v.1"/>
              </a:rPr>
              <a:t>and documen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toneSerif SBIN SmBd v.1"/>
              </a:rPr>
              <a:t>to deep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toneSerif SBIN SmBd v.1"/>
              </a:rPr>
              <a:t>students' understand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86516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toneSerif SBIN SmBd v.1"/>
              </a:rPr>
              <a:t>Six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StoneSerif SBIN SmBd v.1"/>
              </a:rPr>
              <a:t>Key</a:t>
            </a:r>
            <a:r>
              <a:rPr b="1" lang="en-US" sz="5400" spc="-1" strike="noStrike">
                <a:solidFill>
                  <a:srgbClr val="000000"/>
                </a:solidFill>
                <a:latin typeface="StoneSerif SBIN SmBd v.1"/>
              </a:rPr>
              <a:t> Principles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StoneSerif SBIN SmBd v.1"/>
              </a:rPr>
              <a:t>of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StoneSerif SBIN SmBd v.1"/>
              </a:rPr>
              <a:t>Visible Think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toneSerif SBIN SmBd v.1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Learning is a Consequence of Thinking</a:t>
            </a:r>
            <a:r>
              <a:rPr b="0" lang="en-US" sz="2800" spc="-1" strike="noStrike">
                <a:solidFill>
                  <a:srgbClr val="000000"/>
                </a:solidFill>
                <a:latin typeface="StoneSerif SBIN SmBd v.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toneSerif SBIN SmBd v.1"/>
              </a:rPr>
              <a:t>Share and Build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toneSerif SBIN SmBd v.1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Good Thinking is Not Only a Matter of Skills But Also a Matter of Dis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toneSerif SBIN SmBd v.1"/>
              </a:rPr>
              <a:t>Curiosity and Openmin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toneSerif SBIN SmBd v.1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The Development of Thinking is a Social Endea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toneSerif SBIN SmBd v.1"/>
              </a:rPr>
              <a:t>Conversations, Engagement, and Cooperativ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0573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toneSerif SBIN SmBd v.1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Fostering Thinking Requires Making Thinking Visible</a:t>
            </a: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toneSerif SBIN SmBd v.1"/>
              </a:rPr>
              <a:t>Speaking, Writing, Drawing, and Graphic Organizers for Later 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toneSerif SBIN SmBd v.1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Classroom Culture Sets the Tone for Learning and Shapes What i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-classroom routines/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-language/discu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-explicit/implicit expec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-time al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-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-physic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-relationships/inter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-opportun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toneSerif SBIN SmBd v.1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Schools Must be Cultures of Thinking for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toneSerif SBIN SmBd v.1"/>
              </a:rPr>
              <a:t>"Professional Learning Communiti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867280" y="3276720"/>
            <a:ext cx="16002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toneSerif SAIN SmBd v.1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StoneSerif SAIN SmBd v.1"/>
              </a:rPr>
              <a:t>A Strategy to Make Thinking Visible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StoneSerif SAIN SmBd v.1"/>
              </a:rPr>
              <a:t>is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Think-Puzzle-Expl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33920" y="4343400"/>
            <a:ext cx="158436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hink</a:t>
            </a:r>
            <a:r>
              <a:rPr b="1" lang="en-US" sz="4000" spc="-1" strike="noStrike">
                <a:solidFill>
                  <a:srgbClr val="000000"/>
                </a:solidFill>
                <a:latin typeface="StoneSerif SAIN SmBd v.1"/>
              </a:rPr>
              <a:t> about a topic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StoneSerif SAIN SmBd v.1"/>
              </a:rPr>
              <a:t>Identify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uzzling</a:t>
            </a:r>
            <a:r>
              <a:rPr b="1" lang="en-US" sz="4000" spc="-1" strike="noStrike">
                <a:solidFill>
                  <a:srgbClr val="000000"/>
                </a:solidFill>
                <a:latin typeface="StoneSerif SAIN SmBd v.1"/>
              </a:rPr>
              <a:t> Questions </a:t>
            </a: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plore</a:t>
            </a:r>
            <a:r>
              <a:rPr b="1" lang="en-US" sz="4000" spc="-1" strike="noStrike">
                <a:solidFill>
                  <a:srgbClr val="000000"/>
                </a:solidFill>
                <a:latin typeface="StoneSerif SAIN SmBd v.1"/>
              </a:rPr>
              <a:t> Puzzl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57600" y="4191120"/>
            <a:ext cx="182088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INK</a:t>
            </a:r>
            <a:r>
              <a:rPr b="1" lang="en-US" sz="6600" spc="-1" strike="noStrike">
                <a:solidFill>
                  <a:srgbClr val="000000"/>
                </a:solidFill>
                <a:latin typeface="StoneSerif SAIN SmBd v.1"/>
              </a:rPr>
              <a:t>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590560" y="5409720"/>
            <a:ext cx="3429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toneSerif SBIN SmBd v.1"/>
              </a:rPr>
              <a:t>Arthrop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/>
          </p:cNvPr>
          <p:cNvSpPr/>
          <p:nvPr/>
        </p:nvSpPr>
        <p:spPr>
          <a:xfrm>
            <a:off x="29145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250px-Brachypelma_edit" descr="Mexican redknee tarantulaBrachypelma smithi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057400"/>
            <a:ext cx="33148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1:31:15Z</dcterms:created>
  <dc:creator> johanna martinez</dc:creator>
  <dc:description/>
  <dc:language>en-US</dc:language>
  <cp:lastModifiedBy>North Rockland High School</cp:lastModifiedBy>
  <dcterms:modified xsi:type="dcterms:W3CDTF">2010-01-27T12:20:51Z</dcterms:modified>
  <cp:revision>6</cp:revision>
  <dc:subject/>
  <dc:title>What Is Visible Thinking?</dc:title>
</cp:coreProperties>
</file>